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510E-F4D9-4277-8B24-18C05C71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5CF9-C40C-45EE-9365-8EF984F3B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0F30-2494-43A9-BD73-53DF1BD54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1337-4A3F-4D05-B0AF-3B5872079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338A-A36E-4210-845F-7D23FCA19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6DE1-1468-4D2F-8E97-596C8C560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8577-F92F-412B-83AE-63BB1516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E702-6568-4771-A793-947DCED8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3DFD-3C56-4BA8-A934-8A98C2521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742F-4FAA-4700-AA07-56AA7A511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B128-CCD2-471A-967D-1FE414F46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2B0-FB35-4B86-98C0-B439673DF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962A-C13A-4950-AF56-0A97F48A2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D43A-DD1C-4020-84F4-B402E4F0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20CA-5F36-46A1-A36E-B2F5D7325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D2CF-DA4B-4469-8F7E-12FFEC20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69CD-545F-4576-A058-834B771C7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E77E-F429-40DC-B995-EFCD37184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C2A0-876A-47CF-BD0E-67149C79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D5D-9886-4CBF-9F97-30447B0E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6EE-8054-4507-AFE0-2993E2B7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48B-D200-4333-9F02-89DD93AE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59B-CAC8-4344-AC7B-5CB4FE30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411-7D93-4A6B-8D99-40B8886F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3849-7990-46F2-BE58-FD1BC2FD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9EC3-F0BD-4481-A243-843ABD9C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0D9C-4915-4BFB-B2BE-6ED35CB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1C2D-ADBA-4FDA-BA0A-F82D7621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AAB9-F49A-40F7-923F-42863118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692C-109A-409B-A0A7-913726FE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DDC-90B3-4C16-8B2E-B469F604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6637-802B-4BEA-9DA8-165F226D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8009-A42E-4D3D-AEAC-18CC864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638-FDB1-4677-84D3-ECC5548E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EC4D-FA6B-4B79-AC90-A5C771EE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978C-3401-4224-9514-5031F559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8D8-6113-4200-A521-E316A2F0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B4B-0395-47A6-B2C7-847F269A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804-27EE-4DA7-8298-49CFC2AD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75B-D315-4B8D-9C05-8755A2C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EB1-740B-47BF-A49F-ED201E9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08A-F30D-4CC6-8529-F81B3B6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954-E1C8-4810-A6FD-FB64F8B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CB63-59D0-4D0A-9AA6-4ADEBB2C4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7AC-934A-48EE-ABC3-94B4E481C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IPS FOR TEACHING LISTE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 A SHORT, WELL ORGANIZED LECTURE AND HAVE THE CLASS OUTL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QUESTION AND HAVE THE STUDENTS REPHRASE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ORAL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REPETITION OF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REC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STUDENTS SUMMARIZE TV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GOOD LISTENING HABITS O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XONOMY OF DISCUSSION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QUIR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ULES FOR BRAINSTORM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DEAS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RIT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SHOULD BUILD ON ONE ANOTHER’S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SHOULD SOLICIT IDEAS OR OPINIONS FORM SILENT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S LESS IMPORTANT THA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ALS OF SIMUL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CHANGES IN STUDENTS’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CE SPECIFIC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PARTICIPANTS FOR ASSUMING NEW ROLE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INDIVIDUALS UNDERSTAND THEIR CURRENT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STUDENTS’ ABILITY TO APPLY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COMPLEX PROBLEMS OR SITUATIONS TO MANAGEABL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 ROLES THAT MAY AFFECT STUDENTS’ LIVES BUT THAT THEY MAY NEVER 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E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ALYTICAL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ZE INDIVIDUALS TO OTHER PERSONS’ LIFE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 OF SIMUL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HE UNITED STATES AND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EGON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OCK-MARKET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ECTED TOPICS FOR INQUIRY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COMMERCIALS FRAM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JOR ISSUES OR TOPICS OCCUPY HEADLI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FOOD IS CONSUMED OR WASTED IN THE SCHOOL LUNCH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CHOOL INTERSECTIONS CARRY THE HEAVIEST TRAFF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MES ARE MOST REPEATED BY PERSONS SEEKING POLITICAL OFF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EATURES OF COOPERATIVE LEARNING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INTER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-TO-FACE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ACCOUN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SOCI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EYS TO COOPERATIVE LEAR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STUDENT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REQUIREMENTS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, COHESIVENESS, AND RESPONSIBILITY MUST BE PROMO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EY SOCIAL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BRAIN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 OPPORTUNITY TO PARTICIP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PROBLEMS COOPERA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ING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WHAT TO DO WHEN ONE GROUP MEMBER FAILS TO CON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HOW TO HANDLE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BULLETIN BOARD ON LISTE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A CLASS RECORDER ROTATE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STUDENTS TO LISTEN FOR GRAMMATICAL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TUDENTS PARAPHRASE PREVIOUS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 OF LEARNING PROCESSES IN DISCU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ERGARTNERS HAVING A VERBAL SHAR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GRADERS GROWING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-GRADERS MAKING A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-GRADE TEAMS BRAINSTORMING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HTH-GRADERS SETTING UP RECYCLING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H-GRADERS OBSERVING A COURT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ELFTH-GRADERS EXPLORING DIFFERENT WAYS TO APPLY MATH TO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PPLICATIONS FOR SMALL GROUP DISCU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ING STUDENTS’ INTEREST WHEN INTRODUCING A NEW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PROBLEMS OR ISSUES TO BE STUDIED OR ALTERNATIVE WAYS TO APPROACH A TOPIC ALREADY UNDE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ING NEW WAYS TO SOLV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DATA, OPINIONS, AND SOURCE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ING CONCEPTS FOR FUTUR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ING STUDENTS TO DEMONSTRATE INDIVIDUAL 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IMPROVING LEADERSHIP, ORGANIZATION, AND RESEARCH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O DEFEND ONE’S IDEAS AND TO RESPECT THE VIEWPOINTS OF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O ACCEPT AND VALUE VARIOUS ETHNIC AND CULTURAL BACK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EPTS RELATED TO SMALL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CTIONS OF THE DISCUSSION LEAD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ARNER BENEFITS FROM DISCU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 OF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TTITUDES TOWARD LATER USE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-SOLV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CONCEPT AN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UMMARY OF DISCUSSION GROU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TIVE LEARNING CAN BE INITI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HIEVING PROCESS OBJECTIVES REQUIRES ACTIVE STUDENT INVOLVEMENT AND INTERA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SCUSSION ARE HIGHLY INTERAC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SCUSSION CANNOT BE USED FOR ANY TOP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POSITIVE CLASSROOM ENVIRONMENT IS ESSENTIAL FOR COLLABORATIVE 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BODY IN A DISCUSSION GROUP IS ASSIGNED SOME RESPONSIBI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10:18Z</dcterms:created>
  <dc:creator>AEURY</dc:creator>
  <dc:description/>
  <dc:language>en-US</dc:language>
  <cp:lastModifiedBy>User</cp:lastModifiedBy>
  <dcterms:modified xsi:type="dcterms:W3CDTF">2012-08-22T18:16:07Z</dcterms:modified>
  <cp:revision>5</cp:revision>
  <dc:subject/>
  <dc:title>TIPS FOR TEACHING LISTENING</dc:title>
</cp:coreProperties>
</file>